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DCEB6-4003-44C5-8C65-81DA91EC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EE5A1-09FA-4856-B148-6585A18E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24603-B159-48E0-A6AB-81FFE22E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0B0B-3145-4A84-98EB-2B2948CE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3056-BEA7-4496-B0F8-E0BC36DF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3773-92F4-49D7-BCE9-933F1B96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43F7-9DC7-48E9-A109-72B55CC7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56D4-39A3-4F4F-8DEB-E3272FD5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EECF-652C-4667-8BEE-76A1D2EC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3179-3087-4AE5-8783-5BB16436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6FC1-CD42-412D-9B43-8E88E6C6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AACCE-487A-4C10-92CA-87C9DCBF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AD8A-BD36-45D7-9E8F-60026E22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5CD2-6726-4B91-AAA1-52906704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D64D-E945-4683-B9AE-B50361A6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C946-D2F6-4E9E-BEC0-EB1044DF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6BCE-DDC0-4ED6-88D2-C3103246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365AE-4DC2-4F3F-AF8F-EE8BB738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6A77-BD07-44F0-866B-7F3AB609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61B3-B9ED-46E1-B046-09395C27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84A6-13E5-4B7D-9A7F-44E1E973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78531-A1E7-4987-9CFD-2583BDD5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0F1B-AEDD-4131-B5BA-6B7756E8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1752-8C62-48D4-890A-2790BECE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2120-C5C2-4301-8ECC-10FB372FA11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27A5-5203-47C8-AA3A-E2758ED7845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39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81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 нас остани! Денят замира веч; всред нощни сенки падат отдалеч; блуждаем ние в тъма отчаяни, безпомощни, сами - с нас оста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70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Засеня мрак и нашия живот; изчезват слава, радости, имот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що не щадят променливи дни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и неизменим - с нас оста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207440"/>
            <a:ext cx="957744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Не ни зарадвай с поглед сал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`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един, но в нас живей, о, Боже, Ти самин! Христе, с ръка Си крепка ни хвани и вечно ни води - с нас оста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206000"/>
            <a:ext cx="957744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Нуждаем се от Теб ние всеки час-за изкушения сила няма в нас! Спасителю, от зло ни Ти брани! През мрак, през видело - с нас остан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8-12T16:47:36Z</dcterms:modified>
  <cp:revision>227</cp:revision>
  <dc:subject/>
  <dc:title>Slide 1</dc:title>
</cp:coreProperties>
</file>